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27A1-60DA-468B-BB04-870DFC20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58A1-8E7D-4285-9453-40D9D9AD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A197-DF5A-4F4E-83D1-9B83C19C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F3B0-FFC7-402C-9770-E6A75600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4816-4888-4BD5-BF71-FB93BDBB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FAC2-8048-4D46-BE18-66E2CF00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CE41-986C-4FE9-9FB4-3FB56F83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003E-10CC-401C-BE77-043E75A8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6873-0359-40A2-8431-0B0365D3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266-7915-4128-BBB7-BB6E34FF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5C5F-C236-4624-8B90-D59348E5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5A40-80B1-4607-A872-F0F027E1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79CC-B56F-4F9D-96C8-0078A6FB92AA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ty drivers loaded 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vi /proc/tty/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7391520" cy="292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49200" y="2627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31720" y="2666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iew serial 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vi /proc/tty/driver/s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0283</cp:lastModifiedBy>
  <dcterms:modified xsi:type="dcterms:W3CDTF">2014-08-01T02:55:2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